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3860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08916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Авторские системы мультимеди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4005360"/>
            <a:ext cx="8496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8B2E-A1D1-49E9-BD3F-A39DAC72966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981000"/>
            <a:ext cx="84963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гласно классификации можно выделить восемь типов авторских систем, использующих следующие метафо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зы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ценарие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Scripting Languag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образительное управление потоком данных (Icon/Flow Contro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др (Fram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точку с языком сценариев (Card/Scriptin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еменную шкалу (Time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ерархические объекты (Hierarchical Objec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пермедиа-ссылки (Hypermedia Linkag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ры (Taggin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CB88-64E8-4433-915F-3914E500BD0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981000"/>
            <a:ext cx="84963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которые из наиболее распространенных авторских сист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ormula Graphic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(www.formulagraphics.com/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GLpr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(www.gmedia.com/glpro/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yperMetho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(www.hypermethod.com/rus/index.htm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uthorwar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(www.macromedia.com/software/authorware/productinfo/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Boo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www.asymetrix.com/products/instructor.htm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onAuth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www.asymetrix.com/pr/new_iconauthor.htm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media Buil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(www.mediachance.com/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Compil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www.rey.ee/webcompiler/rus/index.htm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 Maker HTM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 (http://bersoft.com/hmhtml/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FF8C-8770-4D44-B410-309B79EF811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11:32:24Z</dcterms:modified>
  <cp:revision>100</cp:revision>
  <dc:subject/>
  <dc:title>Lecture Template </dc:title>
</cp:coreProperties>
</file>